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E29-6417-4A03-A60A-AED86227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239-C049-4367-8D63-1D5F7E4B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4EF-E944-4E76-B19A-75E04B2D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B8A-705C-412C-AC03-64554C4B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F74-1FB4-4BE1-B55E-1092F1B0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322-A286-4C9B-AB49-11A0CFAD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6B3-D423-42B5-A93D-F484F15A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770-140A-4B81-B4DF-E803AA54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8BB-A36A-4832-AE9B-5771FA6B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D02-A1CB-411D-99A0-50D45E42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020-71A9-457B-A8A1-DF693ECE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C03-9F0A-4293-8DBB-7DC1394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B854-60D9-4DA7-975C-73DB5EBC1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yge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, Sulfur, Selenium, Tellurium, Pol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metals and Metall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nium and tellurium are matallo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, sulfur, and selenium are non-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40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located in group 6A which indicated that they have 6 valence electron, and they are re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oxygen family is found all through the air that we breath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1:05:32Z</dcterms:created>
  <dc:creator>tatumadmin</dc:creator>
  <dc:description/>
  <dc:language>en-US</dc:language>
  <cp:lastModifiedBy>tatumadmin</cp:lastModifiedBy>
  <dcterms:modified xsi:type="dcterms:W3CDTF">2009-12-03T21:26:07Z</dcterms:modified>
  <cp:revision>2</cp:revision>
  <dc:subject/>
  <dc:title>Oxygen Family</dc:title>
</cp:coreProperties>
</file>